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983280" cy="92692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69280"/>
              <a:gd name="textAreaBottom" fmla="*/ 9268920 h 9269280"/>
            </a:gdLst>
            <a:ahLst/>
            <a:rect l="textAreaLeft" t="textAreaTop" r="textAreaRight" b="textAreaBottom"/>
            <a:pathLst>
              <a:path w="21600" h="28670">
                <a:moveTo>
                  <a:pt x="4" y="0"/>
                </a:moveTo>
                <a:arcTo wR="4" hR="4" stAng="16200000" swAng="-5400000"/>
                <a:lnTo>
                  <a:pt x="0" y="28666"/>
                </a:lnTo>
                <a:arcTo wR="4" hR="4" stAng="10800000" swAng="-5400000"/>
                <a:lnTo>
                  <a:pt x="21596" y="2867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2080" cy="350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03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42B4F8-0F8A-42A7-919E-60295DBF9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7468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Proceedings of the Twelfth International Conference on Very Large Data Bases, Kyoto, August, 19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7468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Proceedings of the Twelfth International Conference on Very Large Data Bases, Kyoto, August, 19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7468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Proceedings of the Twelfth International Conference on Very Large Data Bases, Kyoto, August, 19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7468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Proceedings of the Twelfth International Conference on Very Large Data Bases, Kyoto, August, 19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3E0-F40C-49E4-A9A3-9B823DED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4C2-78D9-4E65-A5B4-5E48DFF2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070-B06E-4CD9-8656-836C32D4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A6F-90F7-4753-8425-D6C8A362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01F-7CCD-422C-A518-494699A2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0EF-83B3-48B7-A221-3B6EC08D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71B-9314-42C7-BF43-55D66165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2FC-D2FC-441C-9747-F58758B9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1AD-80C6-477B-8469-5D4A9C38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A62-C47B-400B-9465-D0CF4D89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B7F-3279-44C7-B657-4F0F476F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0AC-F248-416E-9EA0-3D140647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4F9AA6-62D9-4A93-BEFC-1D75213F5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 Databas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ina Cos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4748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udy of Index Structures for Main Memory Database Managemen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bin J. Leh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ael J. Ca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LDB 19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versus Main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goals for a disk-oriented index structure desig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 the number of disk ac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 disk sp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goals of a main memory index desig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overall computati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s little memory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index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use minimal space, providing that the size is known in ad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: impractical for anything but a read-only enviro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L Tre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d binary search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ee is kept balanced by executing rotation operations when need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fast 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: poor storage util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index structure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tre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node contains some ordered data items and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storage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ing is reasonably 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ing is also 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based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ned Bucket Has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structure, used both in memory and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fast, if proper table size i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: poor behavior in a dynamic enviro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ible Has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hash table that grows with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hash node contain several data items and splits in two when an overflow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 grows in powers of two when a node overflows and has reached the max depth for a particularly directory si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based indexing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Has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a dynamic hash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are split in predefined linear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kets can be ordered sequentially, allowing the bucket address to be calculated from a base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vent that triggers a node split can be based on storage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Linear Has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oriented towards ma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a directory which grows lin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ined single items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ting criteria is based on average length of the hash ch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inary tree with many elements kept in order in a node (evolved from AVL tree and B t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insec binary search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update and storage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tree has associated a minimum and maximum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nodes (nodes with two children) keep their occupancy in the range given by min and max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25640" y="1981080"/>
            <a:ext cx="3851280" cy="3353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35416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algorithm for T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searching in a bina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t the root of the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search value is less than the minimum value of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n search down the left sub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search value is greater than the maximum value in the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71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n search the right subtr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71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search the current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arch fails when a node is searched and the item is not found, or when a node that bounds the search value cannot be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(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to locate the bounding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bounding node is f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this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value fits then insert it i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min elemen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om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ert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 to the leaf containing greatest lower bound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inser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to this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in Memory database system (MMD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sides permanently on main physical mem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up copy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k Resident database system (DRD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sides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ay be cached into memory fo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is that in MMDB, the primary copy liv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manen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algorithm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bounding node is not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the last node on the search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sert value fits then insert it into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create a new leaf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new leaf was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node in the search path (from leaf to roo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two subtrees heights differ by more than one, then rotate and 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Search for the node that bounds the delete value; search for the delete value within this node, reporting an error and stopping if it is not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If the delete will not cause an underflow then delete the value and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, if this is an internal node, then delete the  value and ‘borrow’ the greatest lower b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delete th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If the node is a half-leaf and can be merged with a leaf, do it, and go to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e algorithm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If the current node (a leaf) is not empty, then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free the node and go to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For every node along the path from the leaf up to the root, if the two subtrees of the node differ  in height by more than one, then perform a rotation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when all nodes have been examined or a node with even balanced has been disco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R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4674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 R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2517840"/>
            <a:ext cx="7315200" cy="30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LR R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2025720"/>
            <a:ext cx="7239240" cy="39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introduced a new main memory index structure, the T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unordered data, Modified Linear Hashing should give excellent performance for exact match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ordered data, the T Tree provides excellent overall performance for a mix of searches, inserts and deletes, and it does so at a relatively low cost in storag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if the T trees have more keys in each node, only the two end keys are actually used for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for every key in node we store a pointer to the record, and most of the time the record pointers are not used, the space is ‘wasted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rchitecture of the Dali Main-Memory Storage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19320" y="3276360"/>
            <a:ext cx="64008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ip Bohannon, Daniel Lieuw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jeev Rastogi, S. Seshadri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i Silberschatz, S. Sudars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li System is a main memory storage manager designed to provide the persistence, availability and safety guarantees typically expected from a disk-resident database, while at the same time providing very high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intended to provide the implementor of a database management system flexible tools for storage management, concurrency control and recovery, without dictating a particular storage model or precluding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about MMD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it reasonable to assume that the entire database fits in memo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for some applic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 a MMDB and a DRDB with a very large cach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RDB, even if all data fits in memory, the structures and algorithms are designed for disk a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s in the design of D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 access to 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ali uses a memory-mapped architecture, where the db is mapped into the virtual address space of the process, allowing the user to acquire pointers directly to information stored in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inter-process communication for basic system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l concurrency control and logging services are provided via shared memory rather than communication with a ser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inciples in the design of Dali (co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for creation of fault-tolerant appl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f transactional paradig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or recovery from process and/or system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f codewords and memory protection to help ensure the integrity of data stored in share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olkit appro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 example, logging can be turned off for data which don’t need to be 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for multiple interface 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ow-level components can be exposed to the user so that critical system components can be optim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rchitecture of the D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ali, the database consist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database files: stores us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system database file: stores all data related to database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files opened by a process are directly mapped into the address space of tha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ab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5486400" cy="32004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li architecture is organized to support the toolkit approach and multiple interface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age allocation requiremen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data should be stored separately form us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rection should not exist at the lowest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objects should be stored contigu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recovery characteristics should be available for different regions of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s and chu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: contiguous page-aligned units of allocation; each database file is comprised of seg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unk: collection of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 characteristics are specified on a per-chunk basis, at chunk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alocators are available within a chun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-of-two allo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line power-of-two allo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alescing allo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ge Table and Segment H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gment h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ssociate info about a segment/chunk with a physical poi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ed when segment is added to a ch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tore additional info about data in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g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maps pages to segment h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allocated based on max # of pages in d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nsaction management in D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present how transaction atomicity, isolation and durability are achieved in D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ali, data is logically organized into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region has a single associated lock with exclusive and shared modes, that guards accesses and updates to the re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level recovery (ML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recovery support for concurrency based on the semantics of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ermits the use of operation locks in place of shared/exclusive region 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LR approach is to replace the low-level physical undo log records with higher-level logical undo log records containing undo descriptions at the operation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overview - f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s in properties of main memory and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cess time for main memory is orders of magnitude less than for disk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is normally volatile, while disk storage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yout of data on disk is much more critical than the layout of data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dis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heckpoint images of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‘anchor’ pointing to the most recent valid check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system log containing redo information, with its tail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overview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em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, mapped into the address space of each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ble end_of_stable_log, which stores a pointer into the system log such that all records prior to the pointer are known to have been flushed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Transaction Table (ATT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ty Page Table (dp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 and dpt are stored in system database and saved on disk with each check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and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– a list of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p. has a level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ociate with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 at level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an consist of ops of level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physical updates to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-comm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he commit record enters the system log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commit record hits the stable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gin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covery algorithm maintains separate undo and redo logs in memory, for each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update generates physical undo and redo lo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transaction/operation pre-commi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do log records are appended to the system 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al undo description for the operation is included in the operation commit record in the system 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 acquired by the transaction/operation are 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ging model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stem log is flushed to disk when a transaction decides to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updated by a redo record written to disk are marked dirty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by the flushing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ng-Pong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copies of the database image are stored on disk and alternate checkpoints write dirty pages to alternate cop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ing proced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current end of stable 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nts of the in-memory ckpt_dpt are set to those of dpt and dpt is zer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ges that were dirty in either ckpt_dpt of the last completed checkpoint or in the current (in-memory) ckpt_dpt are written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ng-Pong Checkpointing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point the 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sh the log and declare the checkpoint completed by toggling cur_ckpt to point to the new check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r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dure is similar with the one existent in 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transaction aborts, updates/operations described by log records in the transaction’s undo log are un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hysical-redo log records are created for  each physical-undo record encountered during the ab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_of_stable_log is the ‘begin recovery point’ for the respective check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art recov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the ATT with the ATT stored in check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the transactions undo logs with the copy from check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 the database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s dpt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s all redo log records and in the same time sets the appropriate pages in dpt to dirty and maintains the ATT consistent with the log applied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ive transactions are rolled back  (first all operations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must be rolled back are rolled back, then operations at level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o o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act of memory resident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s in properties of main-memory and  disk have important implications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-commi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operations which are guaranteed to be carried out after commit of a transaction or operation, even in case of system/process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parate post-commit log is maintained for each transaction - every log record contains description of a post-commit operation to be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records are appended to the system log right before the commit record for a transaction  and saved on disk during check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830556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present features for fault tolerant programming in Dali, other than those provided directly by transaction 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ndling of process de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we assume that the process did not corrupt any system contro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ection from application err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event updates which are not correctly logged from becoming reflected in the permanent datab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Process De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known a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eanup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sponsible for cleanup of a dea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process connects to the Dali, information about the process are stored in the Active Process Table in system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process terminates normally, it is deregistered from th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up process periodically goes through the table and checks if each registered process is still al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 level clean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up process determines (by looking in the Active Process Table) what low-level latches were held by the crashing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latch hold by the process, it is called a cleanup function associated with the l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function cannot repair the structure, a full system crash is sim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, go on to the next 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eaning Up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up server spawns a new process,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eanup ag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o take care of any transaction still running on behalf of the dead proce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up ag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ns the transaction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rts any in-progress transaction owned by the dead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any post-commit actions which has not been executed for a  committed 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can map a database file in a special protected mode (using mprotect system cal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a page is updated, when an undo log record for the update is generated, the page is in put in un-protected mode (using munprotect system c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end of transaction, all unprotected pages are re-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:  - erroneous writes are detected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ystem calls a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word = logical parity word associated with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ata is updated ‘correctly’, the codeword is updated accordin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writing a page to disk, its contents is verified against the codeword for that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mismatch is found, a system crash is simulated and the database is recovered from the last checkpoi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: - lower overhead is incurred during normal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rroneous writes are not detected immediat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currency control facilities available in Dali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ches (low-level locks for mutual exclu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ch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ches in Dali are implemented using the atomic instructions supplied by the underlying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taken into consid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ardless of the type of atomic instructions available, the fact that a process holds or may hold a latch must be observable by the cleanup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target architecture provides only test-and-set or register-memory-swap as atomic instructions, then extra care must be taken to determine in the process did in fact own the l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ing is usually used as the mechanism for concurrency control at the level of a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requests are made on a lock header structure which stores a pointer to a list of locks that have been requested by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lock request does not conflict with the existing locks, then the lock is gr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, the requested lock is added to the list of locks for the lock header, and is granted when the conflicting locks are release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to main memory is much faster than disk access, so we can expect that transactions complete more quickly in a MM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 contention may not be as important as it is when the data is disk 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and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orage allocator provides a low-level interface for allocating and freeing data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li also provides a higher level interface for grouping related data items, performing scans and associative accessing data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p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ion for handling a large number of fixed-length data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temsiz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objects in the heap file, is specified at creation of heap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ap file supports inserts, deletes, item locking and unordered scan of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tendible H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li includes a variant of Extendible hashing as 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hman and Ca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to double the directory size is based on an approximation of occupancy rather than on the local overflow of a bu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er Level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database management systems built on D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li Relational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Memory –ODE Object Oriented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i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rotection against media failure, it is necessary to have a backup copy and to keep a log of transac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for a stable log threatens to undermine the performance advantages that can be achieved with memory resid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sts to be minimized by the access structures (indexes) are 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databases can take advantage of efficient pointer following for data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7T00:14:31Z</dcterms:created>
  <dc:creator>adina</dc:creator>
  <dc:description/>
  <dc:language>en-US</dc:language>
  <cp:lastModifiedBy>Johannes Gehrke</cp:lastModifiedBy>
  <dcterms:modified xsi:type="dcterms:W3CDTF">2001-03-01T23:03:26Z</dcterms:modified>
  <cp:revision>8</cp:revision>
  <dc:subject/>
  <dc:title>Main Memory Database Systems</dc:title>
</cp:coreProperties>
</file>